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B215-ADE7-4D2D-991B-6A377A6AF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5F86-5125-4A8C-8E9F-C6F6969E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8643-36D8-4E61-B620-8D55EFA86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50EE-E2C5-496F-A4E3-A93250796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75AE-E32F-4B4B-9BC9-E0CAD06FA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A199-CA96-4F5F-ACB9-FF55F7AE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4AC2-9E36-4533-BA84-3A688DF41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3563-9441-4FA7-B54D-8AA2FB5C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BF6-1FF9-4340-AC57-625181F5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84C5-3A7D-4C8E-AF3E-5D8944E67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351-16A6-48D1-97CE-C9762F9F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D31-1743-4258-B52F-02F18DB7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E34-335A-4F0A-8A20-30C42165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A3C-A644-4B2B-9724-125365D3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B0C-72B4-4EF7-B686-B0BB0593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8B0-6B6E-4F5E-9327-EAA5AF3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D10-22DC-4F17-8C80-DA90E200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4EB-F8EB-4B03-ADD5-22714E2B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5EB-5B6B-442E-A5F3-96BFD02E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04F-E9B4-494A-B770-C78CA45B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D74-DA61-47A3-B5D9-59165E20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E15-3870-4EAF-A57A-EE15042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5D5A-6E6D-4DB5-9A16-AD009909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5714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ward to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800600" y="4038480"/>
            <a:ext cx="19303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772400" y="571644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80880" y="762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tex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31240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autho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rcRect l="7501" t="0" r="7501" b="0"/>
          <a:stretch/>
        </p:blipFill>
        <p:spPr>
          <a:xfrm>
            <a:off x="6172200" y="228600"/>
            <a:ext cx="194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r and appropriate targets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’s important in your fie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state it clea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 it might look like if students hit your targ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3520" y="19810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666880" y="4343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Chapter 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cus is o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arning tar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will need to revisit this da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5800" y="3200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urate assessment is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r Assessment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Bias and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648320" y="480060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a conglome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ok is sort of like tha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assessment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nd assessment requires 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Lit.: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952880" y="4648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part III of the boo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 will condense it like a trash comp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3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4724280" y="1905120"/>
            <a:ext cx="2338560" cy="103320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4678920" y="19065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 flipH="1">
            <a:off x="46479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2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36"/>
          <p:cNvSpPr txBox="1"/>
          <p:nvPr/>
        </p:nvSpPr>
        <p:spPr>
          <a:xfrm>
            <a:off x="152280" y="228600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2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37"/>
          <p:cNvSpPr txBox="1"/>
          <p:nvPr/>
        </p:nvSpPr>
        <p:spPr>
          <a:xfrm>
            <a:off x="7238880" y="220968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39"/>
          <p:cNvSpPr txBox="1"/>
          <p:nvPr/>
        </p:nvSpPr>
        <p:spPr>
          <a:xfrm>
            <a:off x="1219320" y="3429000"/>
            <a:ext cx="17906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4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40"/>
          <p:cNvSpPr txBox="1"/>
          <p:nvPr/>
        </p:nvSpPr>
        <p:spPr>
          <a:xfrm>
            <a:off x="6019920" y="3962520"/>
            <a:ext cx="2819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5, 6, 7, 8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ction Button: Custom 5">
            <a:hlinkClick r:id="rId1" action="ppaction://hlinksldjump"/>
          </p:cNvPr>
          <p:cNvSpPr/>
          <p:nvPr/>
        </p:nvSpPr>
        <p:spPr>
          <a:xfrm>
            <a:off x="304920" y="304920"/>
            <a:ext cx="8534160" cy="6400800"/>
          </a:xfrm>
          <a:custGeom>
            <a:avLst/>
            <a:gdLst>
              <a:gd name="textAreaLeft" fmla="*/ 414720 w 8534160"/>
              <a:gd name="textAreaRight" fmla="*/ 8119440 w 8534160"/>
              <a:gd name="textAreaTop" fmla="*/ 414720 h 6400800"/>
              <a:gd name="textAreaBottom" fmla="*/ 5986080 h 6400800"/>
            </a:gdLst>
            <a:ahLst/>
            <a:rect l="textAreaLeft" t="textAreaTop" r="textAreaRight" b="textAreaBottom"/>
            <a:pathLst>
              <a:path w="28799" h="21600">
                <a:moveTo>
                  <a:pt x="0" y="0"/>
                </a:moveTo>
                <a:lnTo>
                  <a:pt x="28799" y="0"/>
                </a:lnTo>
                <a:lnTo>
                  <a:pt x="28799" y="21600"/>
                </a:lnTo>
                <a:lnTo>
                  <a:pt x="0" y="21600"/>
                </a:lnTo>
                <a:close/>
              </a:path>
              <a:path fill="lightenLess" w="28799" h="21600">
                <a:moveTo>
                  <a:pt x="0" y="0"/>
                </a:moveTo>
                <a:lnTo>
                  <a:pt x="28799" y="0"/>
                </a:lnTo>
                <a:lnTo>
                  <a:pt x="27399" y="1400"/>
                </a:lnTo>
                <a:lnTo>
                  <a:pt x="1400" y="1400"/>
                </a:lnTo>
                <a:close/>
              </a:path>
              <a:path fill="darken" w="28799" h="21600">
                <a:moveTo>
                  <a:pt x="28799" y="0"/>
                </a:moveTo>
                <a:lnTo>
                  <a:pt x="28799" y="21600"/>
                </a:lnTo>
                <a:lnTo>
                  <a:pt x="27399" y="20200"/>
                </a:lnTo>
                <a:lnTo>
                  <a:pt x="27399" y="1400"/>
                </a:lnTo>
                <a:close/>
              </a:path>
              <a:path fill="darkenLess" w="28799" h="21600">
                <a:moveTo>
                  <a:pt x="28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9" y="20200"/>
                </a:lnTo>
                <a:close/>
              </a:path>
              <a:path fill="lighten" w="28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is the process of gathering evidence of student learning in order to inform instructional decision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iggins - 5th ed. page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195588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30099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read “A Story of Assessment for Student Success” (p. 6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realistic?  Would it work in your school?  Why or why no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ust be authentically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ust set good targets and evalua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activities must match targets,  must be tuned to learner’s initial state and well sequenced there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ust communicate effectively to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must be accur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ed to take responsibility for their own lear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nging role o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ggins claims that schools have moved from rank ordering students to ensuring their achievement of a specified level of accomplish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f th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4900680" y="1919160"/>
            <a:ext cx="2338200" cy="103356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854960" y="19209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H="1">
            <a:off x="48765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392040" y="647712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1.2, p. 20 –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-Involv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sess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the result of changes made in the mind of the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assessment must be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-leve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666880" y="4343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Chapter 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cus is o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urpos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 assess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will need to revisit this in the Pre-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7:23:31Z</dcterms:created>
  <dc:creator>Mark Roddy</dc:creator>
  <dc:description/>
  <dc:language>en-US</dc:language>
  <cp:lastModifiedBy>Seattle University</cp:lastModifiedBy>
  <dcterms:modified xsi:type="dcterms:W3CDTF">2011-01-03T22:38:57Z</dcterms:modified>
  <cp:revision>20</cp:revision>
  <dc:subject/>
  <dc:title>Onward to Chapter 1</dc:title>
</cp:coreProperties>
</file>